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CF6A-E245-4247-82AC-4FC2A41F0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441F-E754-4005-B38E-FC665D0E5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7DB3-7005-4762-BB16-7F2A5262E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E534-1EB8-43DE-8EB4-F314742C0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0472-5969-43AC-BA40-23B59C285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ou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irect Marketing Association (DMA) to have your name removed from the mailing lists of its member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Mail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MA to have your name removed from telephone lists of its member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elephone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97500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019920" y="2365200"/>
            <a:ext cx="274320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33520" y="2365200"/>
            <a:ext cx="236196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429000" y="2365200"/>
            <a:ext cx="1781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57200" y="3733920"/>
            <a:ext cx="800100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57200" y="1984320"/>
            <a:ext cx="8001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– Mobile phones and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xes – Internet – Rad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 – Call waiting – Three-way call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transfer – WiFi – Streaming – S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99156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080" y="6323400"/>
            <a:ext cx="171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624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0164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987600" y="6323400"/>
            <a:ext cx="172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00884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Get to know some key federal privacy protection law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which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from unlawful government searches and seizure of their work product and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6: The Health Insurance Portability and Accountability Act of 1996 (HIPA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patients from the disclosure of sensitive, health-related information without thei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knowledge or cons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8: Children’s Online Privacy Protection Act of 1998 (COPP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hildren’s online privacy by regulating the collection of personal information from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children under 13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0: U.S. Congress Electronic Signatures in Global National Commerce Act (“ESIGN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Helps ensure the legality and validity of electronic contrac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3: Fair and Accurate Credit Transactions Act (FAC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Entitles consumers to one free credit report per year, enables them to opt out of credit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ffers and features other provisions designed to help protect consumers from identity thef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42:19Z</dcterms:modified>
  <cp:revision>53</cp:revision>
  <dc:subject/>
  <dc:title>lesson three</dc:title>
</cp:coreProperties>
</file>