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7CDD-ED6E-4F8A-A24A-75749701B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C0DF-15BC-4308-9465-6D4D3C841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A21A-3C64-4AB4-8C93-45582CF34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i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1326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3808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12800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4T19:59:32Z</dcterms:modified>
  <cp:revision>29</cp:revision>
  <dc:subject/>
  <dc:title>lesson three</dc:title>
</cp:coreProperties>
</file>