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467480" y="299520"/>
            <a:ext cx="960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2"/>
          <p:cNvSpPr/>
          <p:nvPr/>
        </p:nvSpPr>
        <p:spPr>
          <a:xfrm>
            <a:off x="6931080" y="299880"/>
            <a:ext cx="140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Special Need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ing banking servic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riting a check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 D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rite today’s d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 Paye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rite the name of the person 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that you are pa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3. Amount of check in numer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rite the amount of the check in nu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careful not to leave any space betwe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nu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. Amount of check in wor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rite the amount of the check in wo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. Na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personal information is printed here. Never list your Social Security number on your printed chec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6. Signa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gn your check the same way you signed your name on the signature ca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7. Mem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rite why you wrote the check. If you are paying a bill, put down any information requested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mpan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8. Identification numb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se numbers identify your bank, account number, and the check number. They are printed in special magnetic ink that machines can rea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605280" y="6323400"/>
            <a:ext cx="206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2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3962520" y="990720"/>
            <a:ext cx="4800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eck” out these terms!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draf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unced chec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nceled chec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eck card/ Debit ca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l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op pa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rvice char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oided chec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602760" y="6323400"/>
            <a:ext cx="20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3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aintaining a checking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660780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3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304920" y="3962520"/>
            <a:ext cx="24382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bit / Check Car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eck Transactio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M Car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3726000" y="762120"/>
            <a:ext cx="4587840" cy="5181480"/>
          </a:xfrm>
          <a:prstGeom prst="rect">
            <a:avLst/>
          </a:prstGeom>
          <a:ln w="0">
            <a:noFill/>
          </a:ln>
        </p:spPr>
      </p:pic>
      <p:sp>
        <p:nvSpPr>
          <p:cNvPr id="127" name="Line 19"/>
          <p:cNvSpPr/>
          <p:nvPr/>
        </p:nvSpPr>
        <p:spPr>
          <a:xfrm>
            <a:off x="2819520" y="5257800"/>
            <a:ext cx="99036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819520" y="4876920"/>
            <a:ext cx="99036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22"/>
          <p:cNvSpPr/>
          <p:nvPr/>
        </p:nvSpPr>
        <p:spPr>
          <a:xfrm>
            <a:off x="2819520" y="4114800"/>
            <a:ext cx="99036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ding a bank state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6621840" y="6323400"/>
            <a:ext cx="205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3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739880" y="1130400"/>
            <a:ext cx="566424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keeping a running balan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60924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3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80880" y="914400"/>
          <a:ext cx="8393400" cy="4954680"/>
        </p:xfrm>
        <a:graphic>
          <a:graphicData uri="http://schemas.openxmlformats.org/drawingml/2006/table">
            <a:tbl>
              <a:tblPr/>
              <a:tblGrid>
                <a:gridCol w="837360"/>
                <a:gridCol w="837000"/>
                <a:gridCol w="2587680"/>
                <a:gridCol w="1522080"/>
                <a:gridCol w="218880"/>
                <a:gridCol w="1021320"/>
                <a:gridCol w="1369080"/>
              </a:tblGrid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C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ACTION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OUN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OUN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LANC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49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49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47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46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conciling a checking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ep 1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t the current balance from your bank stat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ep 2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deposits recorded in your check register that are not on this stat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ep 3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btract outstanding checks. These are checks you have written that have not yet cleared the banking system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ep 4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re the result with the current balance in your check regist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member to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subtract service fees or other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+ add direct depos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+ add interest earn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559200" y="6323400"/>
            <a:ext cx="210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3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anking terms you should know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cou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utomatic pay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ecking accou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redit un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rect depos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lectronic cas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Joint accou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inimum depos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bile bank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nline bank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avings accou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ored-value ca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ll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602760" y="6323400"/>
            <a:ext cx="20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1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1"/>
          <a:stretch/>
        </p:blipFill>
        <p:spPr>
          <a:xfrm>
            <a:off x="5610240" y="2133720"/>
            <a:ext cx="17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checking account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nk branch offices; hours of operation; availability of AT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fees; per-check fees; printing of checks; balance inquiry fees; ATM fe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char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draft charge; stop-payment fe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te earned; minimum deposit to earn intere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tric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um balance; holding period for deposited che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pecial featu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 deposit; automatic payments; overdraft protection; online and mobile banking; discounts or free check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 stud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60780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1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banking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utomatic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utomatic payment system where bills are paid through direct withdrawal from a ban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utomatic teller machine (AT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customers to get cash and conduct banking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rect depos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rnings automatically deposited into bank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unds transf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s online banking feature allows you to transfer money between your personal accounts and outside accounts. It may also allow family members and others to send you money instant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nline bill p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online banking feature that allows you to send payments from your account to a specified payee almost instantaneous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oint-of-sale transac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M/debit cards accepted at stores or restaurants as pay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620040" y="6323400"/>
            <a:ext cx="205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1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TM terms you should know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M Terms You Should Kno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qui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anc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draw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60780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1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"/>
          <a:stretch/>
        </p:blipFill>
        <p:spPr>
          <a:xfrm>
            <a:off x="1295280" y="2720880"/>
            <a:ext cx="50580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opening a bank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602760" y="6323400"/>
            <a:ext cx="20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2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6269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rts of a check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3580920"/>
            <a:ext cx="50292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the date of the check? _______________________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o is the check made payable to? ___________________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the check number?__________________________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the check transit number? ____________________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re do you endorse a check? ______________________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re is the account number? _______________________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0780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2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4956120" cy="2362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 rot="5400000">
            <a:off x="4584960" y="2123280"/>
            <a:ext cx="48736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aking a deposi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Dat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— Write today’s dat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Bill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— If you are depositing paper bills, write the amount.*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oin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— If you are depositing coins, write the amount.*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Check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— If you are depositing a check, write the bank transit number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Amount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— Write the amount of the check here.*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6. Other Check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— List the total amount of the checks listed on the reverse side of the deposit slip.*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7. Total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— Write the total amount you are depositing here.*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8. Cash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— If you want the bank teller to give you money back from the deposit, write the amount of cash you want here.*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9. Net Deposit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— Subtract the cash amount you want back. Then write the net (final) amount of your deposit.*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* Remember to…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lace the dollar amount to the 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left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f the vertical lin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lace the cents amount to the 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right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f the vertical lin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620040" y="6323400"/>
            <a:ext cx="205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2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905120" y="812880"/>
            <a:ext cx="5175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riting the amount of the check in w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 857.1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writing at the far left side of the 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Eight hundred fifty sev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ll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llow the dollar amount by the word “and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Eight hundred fifty seven 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ll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rite the amount of cents over the number 1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Eight hundred fifty seven and 19/1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ll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aw a line from the end of the 100 to the end of the li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Eight hundred fifty seven and 19/100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ll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60780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2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Straight Connector 2"/>
          <p:cNvSpPr/>
          <p:nvPr/>
        </p:nvSpPr>
        <p:spPr>
          <a:xfrm>
            <a:off x="54100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20:33:21Z</dcterms:created>
  <dc:creator>Derek Oyen</dc:creator>
  <dc:description/>
  <dc:language>en-US</dc:language>
  <cp:lastModifiedBy>Anne Braggins</cp:lastModifiedBy>
  <dcterms:modified xsi:type="dcterms:W3CDTF">2019-10-15T22:09:33Z</dcterms:modified>
  <cp:revision>33</cp:revision>
  <dc:subject/>
  <dc:title>lesson three</dc:title>
</cp:coreProperties>
</file>